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626-C498-4312-A063-6EB7BAC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B12-F902-4C47-AF34-E61442C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605-D1E2-4E66-A96B-ECFE74F2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84B-7442-4FE7-8F17-0332C6B3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110-F461-4367-8DC2-362774E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626-2410-4841-901B-0098A038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8D6-02F4-4D24-854C-C277C770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FAA-C311-426D-986E-DBA0A397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7DB-5184-43E4-B23F-D5B3F5DD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740-8899-40D1-AF96-358AD9FD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591-37AA-4C6D-81E3-626886E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AA8-ECD1-4DA3-80D2-9A5E2C5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981-AD11-4BB0-B92B-0F053EB9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uxurymobilehomes.net/wp-content/uploads/2011/08/Luxury-Homes-Pictu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uxury Homes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447920"/>
            <a:ext cx="5867640" cy="368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57531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Nuestros Suen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5562720"/>
            <a:ext cx="710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Marissa Rizzolo and Joy Maswos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514800">
            <a:off x="7391160" y="266652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f010"/>
                </a:solidFill>
                <a:latin typeface="Arial"/>
              </a:rPr>
              <a:t>Nuestros casa esta localizada en i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2695680" cy="20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2743200" cy="1992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76520" y="380880"/>
            <a:ext cx="5190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s Cuart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066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El dormitormio tiene una cama y una si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38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es muy impresionate. Y es muy estupendo tamb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5562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tiene una piscina y es muy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3434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tiene una moderna cama. El dormitormio es muy gr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429000"/>
            <a:ext cx="990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66920" y="3733920"/>
            <a:ext cx="68580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304920"/>
            <a:ext cx="4495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6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Times New Roman"/>
              </a:rPr>
              <a:t>Las Coci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971800" cy="20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1984320"/>
            <a:ext cx="2971800" cy="222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46483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La cocina es muy bonita y moderna. La cocina tiene una m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648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La cocina tiene un refrigerador. La cocina es muy incredible tam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47920" y="228600"/>
            <a:ext cx="57909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s Comedo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19920" y="1295280"/>
            <a:ext cx="2695320" cy="169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48120" y="1295280"/>
            <a:ext cx="266688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362400">
            <a:off x="675360" y="342900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El comedor es muy moderno. El comedor tiene una mesa es grande tambien.</a:t>
            </a: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00800">
            <a:off x="3476520" y="3355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comedor es magnifico. El comedor es muy lujoso y grande tam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89548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1220200">
            <a:off x="6400080" y="3275640"/>
            <a:ext cx="144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comedor tiene muchos sillas. Y un grande mesa tamb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14600" y="228600"/>
            <a:ext cx="4114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s Sal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286000" cy="152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2133720" cy="167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0" y="3962520"/>
            <a:ext cx="2057400" cy="144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50532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El salón es grande y llena de color. Hay sofás blancos y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38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s luces son de color azul y naranja. Y es mu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4290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 sala es de color marrón gris y grandes 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259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 sala de estar es muy colorido 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633840" y="2209680"/>
            <a:ext cx="1876320" cy="2438640"/>
            <a:chOff x="3633840" y="2209680"/>
            <a:chExt cx="1876320" cy="2438640"/>
          </a:xfrm>
        </p:grpSpPr>
        <p:sp>
          <p:nvSpPr>
            <p:cNvPr id="79" name=""/>
            <p:cNvSpPr txBox="1"/>
            <p:nvPr/>
          </p:nvSpPr>
          <p:spPr>
            <a:xfrm>
              <a:off x="3633840" y="2209680"/>
              <a:ext cx="1876320" cy="24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32480" y="5409720"/>
            <a:ext cx="27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es grande y tiene un fregadero de dos senos y muy bon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76520" y="0"/>
            <a:ext cx="5638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s Baño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09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</a:t>
            </a: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s moderno y e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tiene una banera. Y un fregad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5257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tiene una grade banera. Y una ducha tam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3:15Z</dcterms:created>
  <dc:creator>rizzolomar</dc:creator>
  <dc:description/>
  <dc:language>en-US</dc:language>
  <cp:lastModifiedBy>rizzolomar</cp:lastModifiedBy>
  <dcterms:modified xsi:type="dcterms:W3CDTF">2012-05-29T13:05:58Z</dcterms:modified>
  <cp:revision>14</cp:revision>
  <dc:subject/>
  <dc:title>Slide 1</dc:title>
</cp:coreProperties>
</file>